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59A201C-528F-46C7-A4A2-03D62C5426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2A882BB-F843-446C-8910-1A7069566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04117C-E20A-4939-9FAC-C53772395B9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14D2EE-C06F-4135-B135-BCEAF556A44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02C090D-17E1-4039-AE14-1D014BE4B90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DB4DB25-C41B-4B5C-907B-0D4FA38AB5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D177BC-5012-4AE0-B783-6EEFDA8A67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D02E98-21C3-4F1F-A2AB-4CB1B5D9431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7DF097-8484-4D37-9819-3533F6CB700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B2FDA0F-6BBB-40D9-BDAC-0CB40CED704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B3B55AB-2B18-4C97-A82F-0DAFA977B0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F4BE8B-2486-47BC-BFB4-87D29E4825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7F5A30F-C2C7-4393-81B0-0648B7C730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DE9792C-2A05-44E5-9221-4BD4BBC3CB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94CC0FD-AA1C-4888-8CBD-E64620BA54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2C2648-58B5-46ED-A9A3-849F86EB499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FF451E4-F83E-41CB-93F3-D625FC032B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52979BD-1383-4D80-AD7F-5826A6A5F77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EA8913-CD8C-44E0-8AF9-DF66A99AD7F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29776DC-0ACC-41C8-8694-5016A2329EA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D9D766D-A22D-4517-90ED-9C280B11DB7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3FE39D-536B-4267-9A3C-DAF5CAD94C6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4D4D63-FC92-4EB9-99F2-28563875F2D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C8E4477-1875-4B5A-9DE9-B40ADB2EED8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6211BB-1CA1-4CEE-A440-58E75497335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1E1558-B9E5-450D-89AB-6C5C69311E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8D83D05-133D-40F8-9D0B-4470A5780C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6AE8850-B253-4A71-836F-A7E8D0FB2BF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B6E37C-AABC-4A35-900F-427CDA3860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D0509A-56F5-42BF-BDAA-D5FE542BCCD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18080" cy="346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46A087-3704-4A97-AF51-768DF88F127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3E33C7-48FF-49BB-94E1-F1B25A11B5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D754C05-A3B4-48F1-AC86-F8637C9A89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B06C53-A87A-451B-9097-3E4BC6D79FE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777960"/>
            <a:ext cx="4421160" cy="3316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8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289BD11-7523-47CB-8B61-1C2D0E826CD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33BD24-389D-432D-B14F-9BD172C62F0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719B4D-8FF9-4F7D-9C8A-29744D93D3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203030B-4F31-4F7F-8B05-02A748846C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D01F7F-03D7-478D-BBAD-8A2B2EAECF1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8724BC-BF8B-478D-96D6-F6A04129E67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20154A8-A0A2-4EE5-A939-2527C1B7C35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9453C9E-B5A9-420C-9E4F-0B8B21CCF47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A1C2A55-D686-4BC0-94BF-46F549EC8CA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40F9D0-FA0C-4095-AA3F-68D5683B4FC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579600" y="2835360"/>
            <a:ext cx="5843520" cy="59004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Img"/>
          </p:nvPr>
        </p:nvSpPr>
        <p:spPr>
          <a:xfrm>
            <a:off x="1982880" y="622440"/>
            <a:ext cx="2814480" cy="2111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7719D29-EAFF-45CA-B710-424AD84D0F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39600" y="4408200"/>
            <a:ext cx="5113080" cy="419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21320" cy="346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4AA623-FB60-4941-A886-585F244E48D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B950AB0-8048-4062-9311-46235CA2E5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001960" y="625320"/>
            <a:ext cx="2774880" cy="2081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2E930D22-2FF6-4AD6-BD90-4436B1970F3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49484654-BF95-485C-95EA-0CBF848CF017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4720" y="9266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BE Estimat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historical object data, determine the size in LOC/method of each ob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y by the number of methods to get the estimated object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which objects will be added to the reuse library and note as “New Reused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3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objects do not fit an existing type, they are frequently composi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that they are sufficiently refin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ine those that are not elemental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ch for new object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ing Objects - Example 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682560" y="1552680"/>
            <a:ext cx="755964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able 5.8, three new objects are identified with their numbers of methods, relative size, and LOC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  Methods   Size    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tri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        13          M        115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ar Syste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.          8           L        197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lvl="1" marL="457200" indent="-214200">
              <a:lnSpc>
                <a:spcPct val="90000"/>
              </a:lnSpc>
              <a:buClr>
                <a:srgbClr val="ffffff"/>
              </a:buClr>
              <a:buSzPct val="125000"/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          3           L         49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  <a:p>
            <a:pPr marL="128520" indent="-128520">
              <a:lnSpc>
                <a:spcPct val="90000"/>
              </a:lnSpc>
              <a:spcBef>
                <a:spcPts val="1012"/>
              </a:spcBef>
              <a:buClr>
                <a:srgbClr val="ffffff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64" name="Group 6"/>
          <p:cNvGrpSpPr/>
          <p:nvPr/>
        </p:nvGrpSpPr>
        <p:grpSpPr>
          <a:xfrm>
            <a:off x="1940400" y="3540240"/>
            <a:ext cx="4434840" cy="780120"/>
            <a:chOff x="1940400" y="3540240"/>
            <a:chExt cx="4434840" cy="780120"/>
          </a:xfrm>
        </p:grpSpPr>
        <p:sp>
          <p:nvSpPr>
            <p:cNvPr id="265" name="Rectangle 4"/>
            <p:cNvSpPr/>
            <p:nvPr/>
          </p:nvSpPr>
          <p:spPr>
            <a:xfrm>
              <a:off x="1940400" y="3981240"/>
              <a:ext cx="41216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How were these values determined?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Arc 5"/>
            <p:cNvSpPr/>
            <p:nvPr/>
          </p:nvSpPr>
          <p:spPr>
            <a:xfrm>
              <a:off x="5994360" y="3540240"/>
              <a:ext cx="380880" cy="533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33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ing Objects - Example 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reused objects are also shown in table 5.8, page 120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to be put in the reuse library are identified by an asterisk, such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inked l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modified reused object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    7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entry    9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ed list is an existing 73 LOC object with three added methods of 49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program size consist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-developed code (adjusted with the regression parameter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code from the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ode from prior versions, less dele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 developed code consists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 (BA): additions to th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 (NO): newly develop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code (M): base LOC that are chan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ly developed code is referred to as estimated object LOC (E)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2057400" y="4091040"/>
            <a:ext cx="4792680" cy="1762200"/>
            <a:chOff x="2057400" y="4091040"/>
            <a:chExt cx="4792680" cy="1762200"/>
          </a:xfrm>
        </p:grpSpPr>
        <p:sp>
          <p:nvSpPr>
            <p:cNvPr id="272" name="Rectangle 3"/>
            <p:cNvSpPr/>
            <p:nvPr/>
          </p:nvSpPr>
          <p:spPr>
            <a:xfrm>
              <a:off x="2057400" y="4091040"/>
              <a:ext cx="4792680" cy="176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3" name="Object 4"/>
                <p:cNvSpPr txBox="1"/>
                <p:nvPr/>
              </p:nvSpPr>
              <p:spPr>
                <a:xfrm>
                  <a:off x="2230560" y="4762440"/>
                  <a:ext cx="3948120" cy="52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ew</m:t>
                      </m:r>
                      <m:r>
                        <m:t xml:space="preserve">∧</m:t>
                      </m:r>
                      <m:r>
                        <m:rPr>
                          <m:lit/>
                          <m:nor/>
                        </m:rPr>
                        <m:t xml:space="preserve">Change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4" name="Object 5"/>
                <p:cNvSpPr txBox="1"/>
                <p:nvPr/>
              </p:nvSpPr>
              <p:spPr>
                <a:xfrm>
                  <a:off x="2230560" y="4229280"/>
                  <a:ext cx="20923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6"/>
                <p:cNvSpPr txBox="1"/>
                <p:nvPr/>
              </p:nvSpPr>
              <p:spPr>
                <a:xfrm>
                  <a:off x="2230560" y="5295960"/>
                  <a:ext cx="254952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im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estimated new and changed LOC (N) from the estimated object LOC (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= BA+NO+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linear regression to calculat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01720" y="1527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regression parameters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data on each previously developed progr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x values, use estimated object LOC (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the y values, use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 in each finished program for siz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total development time for each finished program for time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e Program Size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used from the reuse library should be counted and included in the total LOC siz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ode consists of LOC from a previously developed program version or modified code from the program libra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base code is a form of reuse, only unmodified code from the reuse library is counted as reused LOC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Estimat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d estimate consists of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new and changed LOC calculated with the size 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 upper prediction interval (UPI) and lower prediction interval (LPI) for the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 LOC, considering new, base, reused, deleted, and modified c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ed new reuse LOC to be added to the reuse libr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ing the Estimat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mpleted estimate also includes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development time calculated with the time regression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 upper prediction interval (UPI) and lower prediction interval (LPI) for the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500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program (B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695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d (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d (M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 (BA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: NO = 115+197+49 =     36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program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16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size regression parameters to calculate new and changed LOC (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62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Siz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object: E = BA + NO + M = 366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and changed: N = 62 + 1.3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66 = 538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tal: T = 538 + 695 - 5 + 169 = 1397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d total new reuse = 49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2046240" y="2235240"/>
            <a:ext cx="4635720" cy="560520"/>
            <a:chOff x="2046240" y="2235240"/>
            <a:chExt cx="4635720" cy="560520"/>
          </a:xfrm>
        </p:grpSpPr>
        <p:pic>
          <p:nvPicPr>
            <p:cNvPr id="291" name="Picture 4" descr=""/>
            <p:cNvPicPr/>
            <p:nvPr/>
          </p:nvPicPr>
          <p:blipFill>
            <a:blip r:embed="rId1"/>
            <a:stretch/>
          </p:blipFill>
          <p:spPr>
            <a:xfrm>
              <a:off x="2046240" y="2235240"/>
              <a:ext cx="4635720" cy="560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2" name="Object 5"/>
                <p:cNvSpPr txBox="1"/>
                <p:nvPr/>
              </p:nvSpPr>
              <p:spPr>
                <a:xfrm>
                  <a:off x="2120760" y="2302560"/>
                  <a:ext cx="4488120" cy="42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ew</m:t>
                      </m:r>
                      <m:r>
                        <m:t xml:space="preserve">∧</m:t>
                      </m:r>
                      <m:r>
                        <m:rPr>
                          <m:lit/>
                          <m:nor/>
                        </m:rPr>
                        <m:t xml:space="preserve">Changed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ize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mpleted Exampl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time regression parameters to calculate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8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2.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time = 108 + 2.95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66 = 1186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1857240" y="2211480"/>
            <a:ext cx="5016600" cy="672840"/>
            <a:chOff x="1857240" y="2211480"/>
            <a:chExt cx="5016600" cy="672840"/>
          </a:xfrm>
        </p:grpSpPr>
        <p:pic>
          <p:nvPicPr>
            <p:cNvPr id="296" name="Picture 5" descr=""/>
            <p:cNvPicPr/>
            <p:nvPr/>
          </p:nvPicPr>
          <p:blipFill>
            <a:blip r:embed="rId1"/>
            <a:stretch/>
          </p:blipFill>
          <p:spPr>
            <a:xfrm>
              <a:off x="1857240" y="2211480"/>
              <a:ext cx="5016600" cy="6728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97" name="Object 6"/>
                <p:cNvSpPr txBox="1"/>
                <p:nvPr/>
              </p:nvSpPr>
              <p:spPr>
                <a:xfrm>
                  <a:off x="1930320" y="2273040"/>
                  <a:ext cx="486252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velopmentTim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Tim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Time</m:t>
                          </m:r>
                        </m:sub>
                      </m:sSub>
                      <m:r>
                        <m:t xml:space="preserve">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E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alculate the 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08200" y="1536840"/>
            <a:ext cx="78278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prediction range for size and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upper and lower prediction interval (UPI/LPI) for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I = N + Range = 538 + 235 = 77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I = N - Range (or 0) = 538 - 235 = 30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range for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I = Time + Range = 1186 +431 = 1617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PI = Time - Range (or 0) = 1186 - 431 = 775 m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fter Develop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13960" y="1539720"/>
            <a:ext cx="7651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development, measure and record actual siz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, deleted, and modifi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ad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used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an object w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ed but not developed, then its actual size is 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ed but not planned, then its planned size is 0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paring to Use PROB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PROBE for size and time estimates, you will need the following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rical data on objects, divided into ty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factors for the relative sizes of each object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arameters for predicting size and time based on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orical data on estimated and actual program size and development time for calculating regression parameters and prediction interv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Data on Ob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size is highly var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langu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ced by design sty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ing by number of methods can hel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k basic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,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/O, files, dis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, text, calc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-up, error hand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91064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for New Ob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eek size ranges for each type that will help you judge the sizes of new ob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alculate these size r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mean - 2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devi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mean -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me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mean + standard devi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mean + 2 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devi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 section 5.5 (pages 125-134) in the textbook for detai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16120" y="458640"/>
            <a:ext cx="7997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Normal Distribution with Size Ranges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309" name="Picture 1043" descr=""/>
          <p:cNvPicPr/>
          <p:nvPr/>
        </p:nvPicPr>
        <p:blipFill>
          <a:blip r:embed="rId1"/>
          <a:srcRect l="0" t="0" r="0" b="22687"/>
          <a:stretch/>
        </p:blipFill>
        <p:spPr>
          <a:xfrm>
            <a:off x="1100160" y="1847880"/>
            <a:ext cx="6973920" cy="40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og-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ize ranges assume that the object data are normally distribu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data are log-normally distributed, take the log of the data before making the size range calcu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after computing the size ranges, take the antilog to get the factors in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688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re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ing to use PRO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egorizing object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ression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5440" indent="-19692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622440" y="1262160"/>
          <a:ext cx="735156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62160"/>
                    <a:ext cx="735156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Log-Normal Distribu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the following data on an object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hree methods, 39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five methods, 127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wo methods, 64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hree methods, 28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one method, 23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object, two methods, 44 total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C per method is 13, 25.4, 32, 9.333, 23, 2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gs of these data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565, 3.235, 3.466, 2.234, 3.135, 3.09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e is 2.95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andard deviation is 0.421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g values of the size rang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2.95 + 2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21 = 3.79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2.95 + 0.421 = 3.3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2.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2.95 - 0.421= 2.5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2.95 - 2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.421 = 2.1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Factor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se log size ranges, the LOC ranges are obtained by taking the antilo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large (VL) = exp(3.79) = 44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 (L) = exp(3.37) = 29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um (M) = exp(2.95) = 19.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 (S) = exp(2.53) = 12.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y small (VS) = exp(2.11) = 8.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eat these calculations for every object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++ Object Size Ran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826200" y="1927080"/>
            <a:ext cx="637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890800" y="1909800"/>
            <a:ext cx="43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782040" y="1922400"/>
            <a:ext cx="42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5029200" y="1928880"/>
            <a:ext cx="33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038120" y="1909800"/>
            <a:ext cx="30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6095880" y="1908000"/>
            <a:ext cx="289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816120" y="2481120"/>
            <a:ext cx="1256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816120" y="3070080"/>
            <a:ext cx="604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853200" y="3700440"/>
            <a:ext cx="435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/O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827640" y="4272120"/>
            <a:ext cx="705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823320" y="4957920"/>
            <a:ext cx="794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-up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840240" y="5605560"/>
            <a:ext cx="58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2848680" y="2462040"/>
            <a:ext cx="456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34            5.13         11.25          24.66      54.0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832120" y="3070080"/>
            <a:ext cx="456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60            4.79           8.84          16.31      30.0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848320" y="36813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.01           12.06         16.15          21.62      28.9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2810520" y="430992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.55           10.98         15.98          23.25      33.8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2812680" y="49197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88            5.04           6.56            8.53       11.0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831760" y="5605560"/>
            <a:ext cx="462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75            8.00          17.07          36.41      77.6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4327560" y="1536840"/>
            <a:ext cx="175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C per 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Line 22"/>
          <p:cNvSpPr/>
          <p:nvPr/>
        </p:nvSpPr>
        <p:spPr>
          <a:xfrm>
            <a:off x="2922480" y="1841400"/>
            <a:ext cx="4380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tistically-Based Estimat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E uses historical data, linear regression, and the prediction interval to produce an estimate of known accurac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gression provides the best fit, or minimum variance, of a line to thes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ariance of the data is used to determine the prediction interv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si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PROBE, estimates are based on one of four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se either regression method, you ne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asonable amount of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that corre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parame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914400" y="1955880"/>
            <a:ext cx="6705720" cy="1434600"/>
            <a:chOff x="914400" y="1955880"/>
            <a:chExt cx="6705720" cy="1434600"/>
          </a:xfrm>
        </p:grpSpPr>
        <p:sp>
          <p:nvSpPr>
            <p:cNvPr id="347" name="Rectangle 5"/>
            <p:cNvSpPr/>
            <p:nvPr/>
          </p:nvSpPr>
          <p:spPr>
            <a:xfrm>
              <a:off x="914400" y="1955880"/>
              <a:ext cx="6705720" cy="1434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tho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ression with estimated object LOC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gression with estimated new and changed LOC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he averaging method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2120"/>
                  <a:tab algn="l" pos="444600"/>
                  <a:tab algn="l" pos="666720"/>
                  <a:tab algn="l" pos="888840"/>
                  <a:tab algn="l" pos="1111320"/>
                  <a:tab algn="l" pos="1333440"/>
                  <a:tab algn="l" pos="1555920"/>
                  <a:tab algn="l" pos="1778040"/>
                  <a:tab algn="l" pos="2000160"/>
                  <a:tab algn="l" pos="2222640"/>
                  <a:tab algn="l" pos="2444760"/>
                  <a:tab algn="l" pos="2666880"/>
                  <a:tab algn="l" pos="2889360"/>
                  <a:tab algn="l" pos="3111480"/>
                  <a:tab algn="l" pos="3333600"/>
                  <a:tab algn="l" pos="3556080"/>
                  <a:tab algn="l" pos="3778200"/>
                  <a:tab algn="l" pos="4000680"/>
                  <a:tab algn="l" pos="4222800"/>
                  <a:tab algn="l" pos="444492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gineering judgemen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6"/>
            <p:cNvSpPr/>
            <p:nvPr/>
          </p:nvSpPr>
          <p:spPr>
            <a:xfrm>
              <a:off x="922320" y="2263320"/>
              <a:ext cx="669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552600" y="512640"/>
            <a:ext cx="8038800" cy="58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500040" y="469800"/>
            <a:ext cx="8143920" cy="59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2297160" y="2247840"/>
            <a:ext cx="3429000" cy="2362320"/>
            <a:chOff x="2297160" y="2247840"/>
            <a:chExt cx="3429000" cy="2362320"/>
          </a:xfrm>
        </p:grpSpPr>
        <p:sp>
          <p:nvSpPr>
            <p:cNvPr id="352" name="Rectangle 3"/>
            <p:cNvSpPr/>
            <p:nvPr/>
          </p:nvSpPr>
          <p:spPr>
            <a:xfrm>
              <a:off x="2297160" y="2247840"/>
              <a:ext cx="3429000" cy="236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4"/>
                <p:cNvSpPr txBox="1"/>
                <p:nvPr/>
              </p:nvSpPr>
              <p:spPr>
                <a:xfrm>
                  <a:off x="2463840" y="2324160"/>
                  <a:ext cx="3066840" cy="22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nx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vg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vg</m:t>
                                      </m:r>
                                    </m:sub>
                                  </m:sSub>
                                </m:e>
                              </m:nary>
                            </m:num>
                            <m:den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x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vg</m:t>
                                              </m:r>
                                            </m:sub>
                                          </m:sSub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g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g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gression Paramet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regression parameters are calculated using the following formul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the appropriate historical data, an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number of data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BE Method Updat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91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isions to the original PROBE method are incorporated into the August 1997 reprint of the textbook. The revised forms incl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36, page 679, PROBE estimating scrip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39, page 683, size estimating temp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40, page 684, size estimating template in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ble 5.8, page 120, size estimating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project plan summaries from PSP1 to PSP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have an earlier version of the textbook, remember to update i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A: Regression with Estimated Object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07840" y="1765080"/>
            <a:ext cx="799308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A uses the relationship between estimated object LOC 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riteria for using this metho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data points that are correlated (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 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regression parameters (see table C36, page 67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on of all programs through 6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B: Regression with Estimated New and Changed LOC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17200" y="1778040"/>
            <a:ext cx="8056440" cy="4317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B uses the relationship between estimated new and changed LOC 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new and changed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riteria for using this method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or more data points that are correlated (R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gt;0.5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sonable regression parameters (see table C36, page 679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ion of all programs through 4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C: Averag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C uses a ratio to adjust size or time based on historical aver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ing method is easy to use and requires only one data poi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s assume that there is no fixed overhea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verage method is described in table C36 (page 679), PROBE estimating scrip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905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thod D: Engineering Judg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13960" y="15652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D is used in the absence of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judgement to estimate new and changed LOC from estimated object 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judgement to estimate the required development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 D is used when methods A, B, and C cannot be us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ediction Interv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ediction interval provides a likely range around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90% prediction interval gives the range within which 90% of the estimates will likely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a forecast, only an expect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pplies only if the estimate behaves like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calculated from the same data used to calculate the regression paramet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1027" descr=""/>
          <p:cNvPicPr/>
          <p:nvPr/>
        </p:nvPicPr>
        <p:blipFill>
          <a:blip r:embed="rId1"/>
          <a:stretch/>
        </p:blipFill>
        <p:spPr>
          <a:xfrm>
            <a:off x="538200" y="474840"/>
            <a:ext cx="8067600" cy="59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0172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method is a structured way to make softwar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uses your personal siz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statistically sound range within which the actual program size is most likely to fa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34092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Revie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5432400" y="3998880"/>
            <a:ext cx="1317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 for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par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375160" y="2643120"/>
            <a:ext cx="2067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 until th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parts ar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right siz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60760" y="1565280"/>
            <a:ext cx="2435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requirement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673720" y="6066000"/>
            <a:ext cx="1320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Line 7"/>
          <p:cNvSpPr/>
          <p:nvPr/>
        </p:nvSpPr>
        <p:spPr>
          <a:xfrm flipH="1">
            <a:off x="3332160" y="1886040"/>
            <a:ext cx="1440" cy="1792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Line 8"/>
          <p:cNvSpPr/>
          <p:nvPr/>
        </p:nvSpPr>
        <p:spPr>
          <a:xfrm>
            <a:off x="3333600" y="2451240"/>
            <a:ext cx="0" cy="1807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3333600" y="2998800"/>
            <a:ext cx="0" cy="198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3333600" y="3583080"/>
            <a:ext cx="1800" cy="1936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3333600" y="4713120"/>
            <a:ext cx="0" cy="196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3333600" y="5322960"/>
            <a:ext cx="0" cy="1810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332160" y="5892840"/>
            <a:ext cx="1440" cy="1969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3333600" y="4140360"/>
            <a:ext cx="0" cy="198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2317680" y="2085840"/>
            <a:ext cx="2035080" cy="3700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oduce conceptu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2317680" y="2643120"/>
            <a:ext cx="2035080" cy="371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ubdivide the pro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into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17680" y="3218040"/>
            <a:ext cx="2036880" cy="3855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o the parts resembl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rts in the database?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Rectangle 18"/>
          <p:cNvSpPr/>
          <p:nvPr/>
        </p:nvSpPr>
        <p:spPr>
          <a:xfrm>
            <a:off x="2328840" y="3790800"/>
            <a:ext cx="2036880" cy="3733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lect the database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ost like new on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2317680" y="4351320"/>
            <a:ext cx="2035080" cy="379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stimate the new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art’s relative siz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20"/>
          <p:cNvSpPr/>
          <p:nvPr/>
        </p:nvSpPr>
        <p:spPr>
          <a:xfrm>
            <a:off x="2317680" y="4930920"/>
            <a:ext cx="2035080" cy="4111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um the estimated size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f the new part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Rectangle 21"/>
          <p:cNvSpPr/>
          <p:nvPr/>
        </p:nvSpPr>
        <p:spPr>
          <a:xfrm>
            <a:off x="2317680" y="5527800"/>
            <a:ext cx="2035080" cy="3873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Estimate tot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product siz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4343400" y="278136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0" y="384"/>
                </a:moveTo>
                <a:lnTo>
                  <a:pt x="432" y="384"/>
                </a:lnTo>
                <a:lnTo>
                  <a:pt x="432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Freeform 23"/>
          <p:cNvSpPr/>
          <p:nvPr/>
        </p:nvSpPr>
        <p:spPr>
          <a:xfrm>
            <a:off x="4343400" y="4000680"/>
            <a:ext cx="687240" cy="61092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0" y="384"/>
                </a:moveTo>
                <a:lnTo>
                  <a:pt x="432" y="384"/>
                </a:lnTo>
                <a:lnTo>
                  <a:pt x="432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cccc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24"/>
          <p:cNvSpPr/>
          <p:nvPr/>
        </p:nvSpPr>
        <p:spPr>
          <a:xfrm flipH="1">
            <a:off x="4503240" y="1714680"/>
            <a:ext cx="8305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2317680" y="1514520"/>
            <a:ext cx="2035080" cy="371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Obtain historical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ize data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374920" y="2146320"/>
            <a:ext cx="3632040" cy="2641680"/>
          </a:xfrm>
          <a:prstGeom prst="rect">
            <a:avLst/>
          </a:prstGeom>
          <a:solidFill>
            <a:srgbClr val="33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PROBE Method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7960" y="433080"/>
            <a:ext cx="7735680" cy="63324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697040"/>
                <a:tab algn="l" pos="3394080"/>
                <a:tab algn="l" pos="5091120"/>
                <a:tab algn="l" pos="6788160"/>
                <a:tab algn="l" pos="8485200"/>
                <a:tab algn="l" pos="10182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48080" y="1411200"/>
            <a:ext cx="143496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548080" y="2259000"/>
            <a:ext cx="1434960" cy="6732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548080" y="3182760"/>
            <a:ext cx="1434960" cy="5972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548080" y="4030560"/>
            <a:ext cx="143496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2548080" y="4878360"/>
            <a:ext cx="1434960" cy="52056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2548080" y="5649840"/>
            <a:ext cx="1434960" cy="5209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4376880" y="5649840"/>
            <a:ext cx="1284120" cy="5968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, resourc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6119640" y="5649840"/>
            <a:ext cx="1055880" cy="5209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4452840" y="4878360"/>
            <a:ext cx="1130400" cy="5968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Oval 13"/>
          <p:cNvSpPr/>
          <p:nvPr/>
        </p:nvSpPr>
        <p:spPr>
          <a:xfrm>
            <a:off x="4452840" y="4030560"/>
            <a:ext cx="113040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Oval 14"/>
          <p:cNvSpPr/>
          <p:nvPr/>
        </p:nvSpPr>
        <p:spPr>
          <a:xfrm>
            <a:off x="4376880" y="318276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Line 15"/>
          <p:cNvSpPr/>
          <p:nvPr/>
        </p:nvSpPr>
        <p:spPr>
          <a:xfrm>
            <a:off x="2201760" y="1685880"/>
            <a:ext cx="301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3303720" y="2103480"/>
            <a:ext cx="0" cy="14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3992400" y="594828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670720" y="5948280"/>
            <a:ext cx="444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6732720" y="3516480"/>
            <a:ext cx="0" cy="212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Line 20"/>
          <p:cNvSpPr/>
          <p:nvPr/>
        </p:nvSpPr>
        <p:spPr>
          <a:xfrm flipH="1">
            <a:off x="5592240" y="3519360"/>
            <a:ext cx="1140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Line 21"/>
          <p:cNvSpPr/>
          <p:nvPr/>
        </p:nvSpPr>
        <p:spPr>
          <a:xfrm flipH="1">
            <a:off x="5592240" y="4405320"/>
            <a:ext cx="1140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Line 22"/>
          <p:cNvSpPr/>
          <p:nvPr/>
        </p:nvSpPr>
        <p:spPr>
          <a:xfrm flipH="1">
            <a:off x="3992400" y="3481560"/>
            <a:ext cx="378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Line 23"/>
          <p:cNvSpPr/>
          <p:nvPr/>
        </p:nvSpPr>
        <p:spPr>
          <a:xfrm flipH="1">
            <a:off x="3975120" y="4405320"/>
            <a:ext cx="47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Line 24"/>
          <p:cNvSpPr/>
          <p:nvPr/>
        </p:nvSpPr>
        <p:spPr>
          <a:xfrm flipH="1">
            <a:off x="3992400" y="5176800"/>
            <a:ext cx="454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3303720" y="302724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Line 26"/>
          <p:cNvSpPr/>
          <p:nvPr/>
        </p:nvSpPr>
        <p:spPr>
          <a:xfrm>
            <a:off x="3303720" y="387504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Line 27"/>
          <p:cNvSpPr/>
          <p:nvPr/>
        </p:nvSpPr>
        <p:spPr>
          <a:xfrm>
            <a:off x="3303720" y="4722840"/>
            <a:ext cx="0" cy="14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3303720" y="5494320"/>
            <a:ext cx="0" cy="149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Line 29"/>
          <p:cNvSpPr/>
          <p:nvPr/>
        </p:nvSpPr>
        <p:spPr>
          <a:xfrm flipH="1">
            <a:off x="2220480" y="5910120"/>
            <a:ext cx="282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5592600" y="5176800"/>
            <a:ext cx="11224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Line 31"/>
          <p:cNvSpPr/>
          <p:nvPr/>
        </p:nvSpPr>
        <p:spPr>
          <a:xfrm>
            <a:off x="7184880" y="5929200"/>
            <a:ext cx="414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Oval 32"/>
          <p:cNvSpPr/>
          <p:nvPr/>
        </p:nvSpPr>
        <p:spPr>
          <a:xfrm>
            <a:off x="947880" y="138276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e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Oval 33"/>
          <p:cNvSpPr/>
          <p:nvPr/>
        </p:nvSpPr>
        <p:spPr>
          <a:xfrm>
            <a:off x="947880" y="5583240"/>
            <a:ext cx="120636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Oval 34"/>
          <p:cNvSpPr/>
          <p:nvPr/>
        </p:nvSpPr>
        <p:spPr>
          <a:xfrm>
            <a:off x="7548480" y="5583240"/>
            <a:ext cx="1206720" cy="67320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0" name="Rectangle 35"/>
          <p:cNvSpPr/>
          <p:nvPr/>
        </p:nvSpPr>
        <p:spPr>
          <a:xfrm>
            <a:off x="943560" y="3616200"/>
            <a:ext cx="1152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7545240" y="5011560"/>
            <a:ext cx="12938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Line 37"/>
          <p:cNvSpPr/>
          <p:nvPr/>
        </p:nvSpPr>
        <p:spPr>
          <a:xfrm flipV="1">
            <a:off x="8172360" y="5316480"/>
            <a:ext cx="0" cy="254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3" name="Line 38"/>
          <p:cNvSpPr/>
          <p:nvPr/>
        </p:nvSpPr>
        <p:spPr>
          <a:xfrm flipV="1">
            <a:off x="1571760" y="2058840"/>
            <a:ext cx="0" cy="145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Line 39"/>
          <p:cNvSpPr/>
          <p:nvPr/>
        </p:nvSpPr>
        <p:spPr>
          <a:xfrm flipV="1">
            <a:off x="1571760" y="4030560"/>
            <a:ext cx="0" cy="145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Oval 40"/>
          <p:cNvSpPr/>
          <p:nvPr/>
        </p:nvSpPr>
        <p:spPr>
          <a:xfrm>
            <a:off x="6912000" y="1628640"/>
            <a:ext cx="573120" cy="316080"/>
          </a:xfrm>
          <a:prstGeom prst="ellipse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41"/>
          <p:cNvSpPr/>
          <p:nvPr/>
        </p:nvSpPr>
        <p:spPr>
          <a:xfrm>
            <a:off x="6858000" y="2246400"/>
            <a:ext cx="682560" cy="315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1" lang="en-US" sz="7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7960"/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</a:tabLst>
            </a:pPr>
            <a:endParaRPr b="1" lang="en-US" sz="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42"/>
          <p:cNvSpPr/>
          <p:nvPr/>
        </p:nvSpPr>
        <p:spPr>
          <a:xfrm>
            <a:off x="7620120" y="1601640"/>
            <a:ext cx="803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Item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7620120" y="2201760"/>
            <a:ext cx="853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Task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Line 44"/>
          <p:cNvSpPr/>
          <p:nvPr/>
        </p:nvSpPr>
        <p:spPr>
          <a:xfrm flipH="1">
            <a:off x="6905160" y="5180040"/>
            <a:ext cx="636840" cy="11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BE Estimating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232080" y="1479600"/>
            <a:ext cx="1185840" cy="48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24280" y="200016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1006920" y="1519200"/>
            <a:ext cx="788040" cy="4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495440" y="2239920"/>
            <a:ext cx="4675320" cy="84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entify and size object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795680" y="2575080"/>
            <a:ext cx="1039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mber of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936880" y="2543040"/>
            <a:ext cx="723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3961080" y="2558880"/>
            <a:ext cx="852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lativ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5180760" y="2590920"/>
            <a:ext cx="103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us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2803680" y="3419640"/>
            <a:ext cx="2043000" cy="58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 other LO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2813040" y="4292640"/>
            <a:ext cx="2025720" cy="54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 siz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13"/>
          <p:cNvSpPr/>
          <p:nvPr/>
        </p:nvSpPr>
        <p:spPr>
          <a:xfrm>
            <a:off x="2819520" y="5129280"/>
            <a:ext cx="2011320" cy="52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cul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3824280" y="48718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3824280" y="56865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091680" y="5937120"/>
            <a:ext cx="14922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ze estimat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17"/>
          <p:cNvSpPr/>
          <p:nvPr/>
        </p:nvSpPr>
        <p:spPr>
          <a:xfrm>
            <a:off x="5299200" y="4292640"/>
            <a:ext cx="2025360" cy="54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18"/>
          <p:cNvSpPr/>
          <p:nvPr/>
        </p:nvSpPr>
        <p:spPr>
          <a:xfrm>
            <a:off x="5305320" y="5129280"/>
            <a:ext cx="2011320" cy="52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culat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diction interval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6310440" y="4871880"/>
            <a:ext cx="0" cy="24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20"/>
          <p:cNvSpPr/>
          <p:nvPr/>
        </p:nvSpPr>
        <p:spPr>
          <a:xfrm>
            <a:off x="4856040" y="4549680"/>
            <a:ext cx="420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5321880" y="5937120"/>
            <a:ext cx="20088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ource estimat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6310440" y="5686560"/>
            <a:ext cx="0" cy="249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23"/>
          <p:cNvSpPr/>
          <p:nvPr/>
        </p:nvSpPr>
        <p:spPr>
          <a:xfrm>
            <a:off x="3822840" y="4043520"/>
            <a:ext cx="1440" cy="220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Line 24"/>
          <p:cNvSpPr/>
          <p:nvPr/>
        </p:nvSpPr>
        <p:spPr>
          <a:xfrm>
            <a:off x="3822840" y="3100320"/>
            <a:ext cx="144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3" name="Line 25"/>
          <p:cNvSpPr/>
          <p:nvPr/>
        </p:nvSpPr>
        <p:spPr>
          <a:xfrm>
            <a:off x="2027160" y="1724040"/>
            <a:ext cx="849240" cy="0"/>
          </a:xfrm>
          <a:prstGeom prst="line">
            <a:avLst/>
          </a:prstGeom>
          <a:ln w="507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eptual Desig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ceptual design is need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 the requirements to the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the product elements that will produce the desired fun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the size of what will be bui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understood designs, conceptual designs can be done quickly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do not understand the design, you do not know enough to make an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776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dentify the Objects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possible, select application entit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how many methods each object is likely to cont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type of the object, e.g., data, calculation, file, control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the relative size of each object: very small (VS), small (S), medium (M), large (L), or very large (VL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59:01Z</cp:lastPrinted>
  <dcterms:modified xsi:type="dcterms:W3CDTF">2018-09-06T00:16:39Z</dcterms:modified>
  <cp:revision>109</cp:revision>
  <dc:subject/>
  <dc:title>No Slide Title</dc:title>
</cp:coreProperties>
</file>